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954-D395-4843-9B48-8BB04A6B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C5D-BBA0-4FD5-B850-3DAC7B4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B4C-C0C7-4F24-9AF6-731CF7FD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18B-13F6-4293-9DC8-668EB012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23A4-BD80-4541-888C-BD5AA479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11BD-97CF-4382-BEFD-00110A7D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AD43-EEE3-4340-AF51-A081364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16F-0AAD-4009-9474-D7F3750E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0CC-8772-4802-8303-60368F33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81F-7E70-4A93-8BE0-779C3A5A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B772-A063-4CC5-91E2-6C1D4E9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0D4-0581-4B83-B250-B6E7060A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C84-7A09-454B-BBBD-E0802310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EA8-BA70-4966-B70C-8A6E028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3EAE-B6F6-4A69-A5FE-BEF28B10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3C50-9142-46A8-BAB0-697258A0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6F48-FDD5-451E-BB91-C4C63F22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9C7-B12A-4FE6-A9C3-9321A5C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9DB-9EEC-4D51-A66F-3B7BB0D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146-DC21-4A31-8FC8-012D890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4DB-D328-4D9B-A83F-A459F00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2F4-F82E-4B6B-9BE3-04C9FD5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8A4-F6AC-47BC-A2FE-20B4FF89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51A-B7C7-443E-BC1C-D940C79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AC13-08AB-45E7-BEEA-038E15CB0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5C0-BC13-44FF-B980-2E96EBF32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Grade Gramm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elping verb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elps another verb to show an ac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and 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can be helping verb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when the subject is singu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when the subject is plural or I or you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m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been looking for a new recipe for chocolate cake.   Mom and Dad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en married for 8 yea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m, is, are, was, and were are also helping verbs (and linking verbs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wer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appy that they cam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dison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making her b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rison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was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going to the park yester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looking for the key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coming to the part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elping 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helping verb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helps another verb show ac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helping mom clean the hous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he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iting on m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oe and Ja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wer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standing in the rai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aking my sister to the doctor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ur teacher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w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hoping we would do well on our tes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h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given his dog a bath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ited an hour for the tickets to go on sal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28:09Z</dcterms:created>
  <dc:creator>GCSD</dc:creator>
  <dc:description/>
  <dc:language>en-US</dc:language>
  <cp:lastModifiedBy>teacher</cp:lastModifiedBy>
  <dcterms:modified xsi:type="dcterms:W3CDTF">2010-12-06T02:48:45Z</dcterms:modified>
  <cp:revision>4</cp:revision>
  <dc:subject/>
  <dc:title>Helping Verbs</dc:title>
</cp:coreProperties>
</file>